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B6D-E1E3-49DF-9B2D-4A6F4517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4DC-3235-445E-AD9C-21E53081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9C5-FDE0-4CF2-9FE2-F1BD1CC4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81B-635B-4997-9CA6-C81F8460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362-103D-4523-93CC-0B5AAAD4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BF6-C62A-4616-8A8D-29463E58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61A-7183-4736-9CBD-5D6E5ECC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6D2-4311-4FBC-867A-D20313B4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187-AB8D-4ED2-A614-59C71B81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DB17-67E4-49CD-A577-9B164B88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40A-5856-4FCD-ABE3-5427DEFC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770-3613-41A0-8FDD-5DDACC3E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E64A-3166-4D08-947B-0F624737F19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0 K výšinám, k výšin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výšinám, k výši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nám cestu ukáz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voj život za nás da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výšinám, vedie Pán ľud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ážny hlas znie tu z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sú časné star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oti večnej radosti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ážny hlas znie tu zas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je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diaľke tam žiari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ý prístav, cesty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emu vedie Spasit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diaľke tam žiari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,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7:21:46Z</dcterms:modified>
  <cp:revision>20</cp:revision>
  <dc:subject/>
  <dc:title>Je veľký náš Pán, on slávy je Kráľ Nech do všetkých strán  spev vrúcnych znie chvál.</dc:title>
</cp:coreProperties>
</file>